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50C-C181-4E5B-92C2-37DFCA31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E668-6BF2-468E-B786-55122201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00A6-FF69-4ADF-8843-88E6E202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4C1-2590-4B83-9A4C-CBB0C5AA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BD8A-AA4A-4929-84C1-8D6F9B3C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12DA-E2A8-4B12-BE6C-45639AB8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A817-3557-4664-AB32-02BCDA24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D76C-CB6A-4939-BD36-35A9B2F0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ABBA-8EE3-4FE9-8292-6C51B9E7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4CB4-9D2E-4E5A-8690-07FC8A4A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7092-B330-4759-8C0B-E1E80D90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92A2-9A05-43F5-99F5-663E9F21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3C97-E6BC-4A82-A499-E99638A1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B409-4D81-4526-BAA6-AA4CD2FA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E855-5D8C-4F85-B3DE-1314FBC6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AD25-CDF7-4462-BC7C-A7287227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8331-D3B2-44BC-9F0C-23931564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DCE-C0C6-4510-9921-D1EC5302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248-53CD-4611-8E07-E7C75E71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F46-C659-455D-8082-A4E3C757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6412-0F4D-431D-9954-1BA3C513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137F-C19E-4A08-912F-35348561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C71-8B7B-4766-92E8-41D500AC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3448-3E72-46EB-AF1A-9FDF826D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3AE9-37B4-4BA2-97A0-DD5E30CD35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Bodoni MT Black"/>
              </a:rPr>
              <a:t>Click to edit the title text format</a:t>
            </a:r>
            <a:endParaRPr b="0" lang="en-US" sz="8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ides prepared by Cyndi Chie and Sarah Fry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0A86-5454-4355-91E0-C221E7E0E4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251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0320" algn="ctr">
              <a:spcBef>
                <a:spcPts val="799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754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00640" algn="ctr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00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00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66"/>
                </a:solidFill>
                <a:latin typeface="Bodoni MT Black"/>
              </a:rPr>
              <a:t>A Gift of Fire</a:t>
            </a:r>
            <a:br>
              <a:rPr sz="7200"/>
            </a:br>
            <a:r>
              <a:rPr b="0" lang="en-US" sz="2400" spc="-1" strike="noStrike">
                <a:solidFill>
                  <a:srgbClr val="ffcc66"/>
                </a:solidFill>
                <a:latin typeface="Bodoni MT Black"/>
              </a:rPr>
              <a:t>Third edition</a:t>
            </a:r>
            <a:br>
              <a:rPr sz="2400"/>
            </a:br>
            <a:r>
              <a:rPr b="0" lang="en-US" sz="4800" spc="-1" strike="noStrike">
                <a:solidFill>
                  <a:srgbClr val="ffcc66"/>
                </a:solidFill>
                <a:latin typeface="Bodoni MT Black"/>
              </a:rPr>
              <a:t>Sara Baase</a:t>
            </a:r>
            <a:endParaRPr b="0" lang="en-US" sz="48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 6: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The Impact on Employment Discussion Question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jobs have been eliminated due to technolog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jobs that were once considered high-skill jobs are now low-skill due to technolog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new jobs have been created because of technolog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The Work Environment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 Dispersal and Telecommut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comm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at home using a computer electronically linked to one's place of em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 office using a laptop, working out of your car or at customer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time and part-time telecomm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The Work Environ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Dispersal and Telecommuting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s overhead for emplo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s need for large off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loyees are more productive, satisfied, and loy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s traffic congestion, pollution, gasoline use, and 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s expenses for commuting and money spent on work clot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work to continue after blizzards, hurrica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The Work Environ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Dispersal and Telecommuting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loyers see resentment from those who have to work at the 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some telecommuting employees, corporation loyalty wea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d work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for office space has shifted to the employ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risks when work and personal activities reside on the same comp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The Work Environ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ing Structure of Busine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in smaller businesses and independent consultants (‘information entrepreneurs’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m and pop multi-nationals’, small businesses on the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th of large, multi-national corpo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changes due to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The Work Environment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Discussion Question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you want to telecommute?  Why or why no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has technology made entrepreneurship easier?  Harde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Employee Crime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bezzlement - fraudulent appropriation of property by a person to whom it has been entru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ed employees have stolen millions of doll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ry fired employees sabotage company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c bomb - software that destroys critical files (payroll and inventory records) after employee le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Employee Monitoring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is not n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monitoring was mostly ‘blue-collar’ (factory) and ‘pink-collar’ (telephone and clerical)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-clocks and lo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 counts at the end of the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sses patrolled the aisles watching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Employee Monitor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Entry, Phone Work, and Retai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e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stroke q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ep when workers p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and duration of 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le time between 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ly listen in on 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veillance to reduce theft by employ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Employee Monitor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ion Monitor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s and badges used as electronic keys increase security but track employee m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S tracks an employee's 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in some hospitals to track nurse locations for emergency purposes, also shows where they are at lunch or when they use the bath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track long-haul trucks to reduce theft and optimize delivery schedules, also detects driving speeds and duration of rest brea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loyees often complain of loss of priv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What We Will Cover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rs and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pact on Employ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k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ee Cr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ee Monito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Employee Monitor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, Blogging, and Web 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 and voice mail at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s often assume passwords mean they are priv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ghly half of major companies in the U.S. monitor or search employee e-mail, voice mail, or computer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panies monitor infrequently, some routinely intercept all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Employee Monitor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, Blogging, and Web Use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and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 Communications Privacy Act (ECPA) prohibits interception of e-mail and reading stored e-mail without a court order, but makes an exception for business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rts put heavy weight on the fact that computers, mail, and phone systems are owned by the employer who provides them for business pur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Employee Monitor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, Blogging, and Web Use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and cases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rts have ruled against monitoring done to snoop on personal and union activities or to track down whistle bl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employers have privacy policies regarding e-mail and voice 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tional Labor Relation Board (NLRB) sets rules and decides cases about worker-employer re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Employee Monitoring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, Blogging, and Web Use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ompanies block specific sites (e.g. adult content, sports sites, job search sites, social-network si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s spend time on non-work activities on the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rns over security threats such as viruses and other malicious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rns about inappropriate activities by employees (e.g., harassment, unprofessional com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Employee Monitoring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Discussion Question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privacy is reasonable for an employee to expect in the workpla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what circumstances is it appropriate for an employer to read an employee's e-mai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Fears and Questions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troduction of computers in the workplace generated many f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 unemployment due to increased 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ed for increased skill and training widens the earning g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trends still generating f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shoring of jobs will lead to mass unem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loyers use of technology to monitor their employ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The Impact on Employment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Creation and destru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uccessful technology eliminates or reduces some jobs but creates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the need for telephone operators, meter readers, mid-level mana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industries ar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ular 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prices increase demand and create jo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ic industry changed from serving the wealthy to serving the masses, employing more than just musici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The Impact on Employment (cont.)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Creation and destru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mployment rates fluctu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wth of computers has been steady,  while unemployment has fluctuated wid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we earning l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 1970s, wages decreased but fringe benefits incre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work fewer hours since the Industrial R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 in take-home pay may be due to other factors (e.g. increased tax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chasing power increases as prices f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The Impact on Employ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ing Skill Leve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w jobs created from computers are different from the jobs elimin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jobs such as computer engineer and system analyst jobs require a college degree, where jobs such as bank tellers, customer service representatives and clerks do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es are more willing to hire people without specific skills when they can train new people quickly and use automated support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The Impact on Employ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lobal Workfor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ourcing - phenomenon where a company pays another company to build parts for its products or services instead of performing those tasks it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shoring - the practice of moving business processes or services to another country, especially overseas, to reduce co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horing - when another company employs thousands of people in the U.S. (e.g. offshoring for a German company means inshoring for U.S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most 5% of U.S. workers are employed by foreign compan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The Impact on Employ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lobal Workforce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 and side effects of offshor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s complain about customer service representatives, because accents are difficult to under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s in U.S. companies need new job skills (e.g., managing, working with foreign colleagu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demand for high-skill workers in other countries forces salaries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The Impact on Employ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ting a Job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ing about jobs and compan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ine company histories and annual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search and resume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ine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ing about applicants and employ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online newsgroups and social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re data-collection agencies such as Choice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pective employees may craft an online profile and presence geared towards the job they w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0:42:23Z</dcterms:created>
  <dc:creator> </dc:creator>
  <dc:description/>
  <dc:language>en-US</dc:language>
  <cp:lastModifiedBy>Sara</cp:lastModifiedBy>
  <dcterms:modified xsi:type="dcterms:W3CDTF">2007-11-25T02:54:41Z</dcterms:modified>
  <cp:revision>47</cp:revision>
  <dc:subject/>
  <dc:title>         Gift of Fir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21033</vt:lpwstr>
  </property>
</Properties>
</file>